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89CF-72BE-41E5-B85E-E535E5F23D3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3E46-4442-4384-9239-077E53F6547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ACC8-53D8-46E6-B03C-D50BAF52448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08CA-C50B-4551-A73A-53C5B16674B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C20-8A38-46B7-A4AE-7AE729B3C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21A2-63F8-4D9A-97DA-093EB181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044-65C9-4D96-9AA4-144A65FB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65B1-C490-49D9-BE5B-20B9013B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DB3-2D79-4F02-9BC4-E24CEB85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6A3-178A-4C56-8F77-6C218265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6970-5ADD-4F53-BDA5-A09EFF05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21A-E12F-43D2-B35F-21019C1A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3BF-D7D6-4786-AE4B-3586BB78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83D-3297-43F9-A9CE-B6A7D4A4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EF18-6A38-4AB5-8799-2CDB98B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FC2-0D06-4F1C-91A3-16EFB113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F9D5-E735-4E54-B528-7E1F248A6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968560"/>
            <a:ext cx="7772400" cy="16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схрана у периоду раста и развој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иљана Вулет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845640" y="447840"/>
            <a:ext cx="69382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ТРЕБE ОДOЈЧЕТА У МAСТИM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821600" y="1828800"/>
            <a:ext cx="683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 42% ЕНЕРГИЈ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НЕВНИ УНОС 5-6 гр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8% ТРИГЛИЦЕРИД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%    СЛОБОДНЕ МАСНЕ КИСЕЛИН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859680" y="685800"/>
            <a:ext cx="82609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НОНЕЗАСИЋЕНЕ МАСНЕ КИСЕЛИ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ЛМИТО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ЛЕИНСК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лазе се у скоро свим масти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ису неопходне у исхран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43960" y="3854520"/>
            <a:ext cx="7967160" cy="21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ЛИНЕЗАСИЋЕНЕ МАСНЕ КИСЕЛИН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СЕНЦИЈАЛН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Н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НОЛЕНСКА    ( мин 0,1% Е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48680" y="371520"/>
            <a:ext cx="89514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ТРЕБЕ ОДОЈЧЕТА У  УГЉЕНИМ ХИДРАТИМ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02120" y="1994040"/>
            <a:ext cx="835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6% Е    сахароза, други дисахариди , монодсахариди  16%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кробне материје                                                   3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ЕВНИ УНОС  10-15 гр/кг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 ОДСУСТВУ У.Х. ЗА  ЕНЕРГЕТСКЕ  ПОТРЕБ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ЛАНЧЕВИН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47280" y="304920"/>
            <a:ext cx="6726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ТРЕБE OДOЈЧETА У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ИНЕРАЛНIM MAТEРIЈAМ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962280" y="1712880"/>
            <a:ext cx="5961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УЈУ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С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ШИЋ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ТИВ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ДОК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ВНОТЕЖ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ДБУБРЕЖ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РМО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ИСЕЛ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РЕВ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8908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57200" y="868320"/>
            <a:ext cx="8381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АКРОЕЛEME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&gt;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0,005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Ca,P, K,Na,Mg,Cl i 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П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НИ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И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ВИТАЛ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УНКЦИ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%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ДЕЛОМ У СКЕЛЕТ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838080" y="446400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ЛИГОМИНЕРАЛ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ТРАГУ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n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67160" y="447840"/>
            <a:ext cx="7432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ТРЕБ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ИТАМ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И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6996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47920" y="1050840"/>
          <a:ext cx="6095880" cy="57387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12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ТАМ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2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boflavin B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ac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ridoksin 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 </a:t>
                      </a:r>
                      <a:r>
                        <a:rPr b="1" i="1" lang="sl-SI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RE 4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 i.j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. 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 m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i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80880" y="390600"/>
            <a:ext cx="8458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АТУРАЦИЈА МОТОРНИХ ФУНКЦИЈА ГИТ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57200" y="1384200"/>
            <a:ext cx="8470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17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ЕТАЛНИ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34-36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РЕФЛЕК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ИСАЊ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УТАЊЕ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ИНХРОН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РЕСПИРАЦИЈАМ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УБИ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ЕКСТРУЗИОНОГ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РЕФЛЕКС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АША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6-8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ЛЕЧН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ЕНТИЦИЈ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ТРОЛ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В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АЗ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УТА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7-1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ВАК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ГРИЦКА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мес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ЛОЖЕН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КРЕТИ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ЖВАКАЊА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МРВЉЕЊ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ХВАТАЊ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ВРСТЕ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РАН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ЧЕТАК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РИШЋЕЊ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БОР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ЛО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600" y="1152360"/>
            <a:ext cx="8686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СНОВНИ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ИНЦИПИ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46320" y="2374920"/>
            <a:ext cx="7824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ЉИ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ТЕРИ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Д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В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НЕМЛЕЧ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У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4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895680" y="1109520"/>
            <a:ext cx="73335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ЛЕЧНИ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ЖИМ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ХРАН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ДОЈЧЕТ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22680" y="2862360"/>
            <a:ext cx="677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РОД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АЈЧИ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ВОВРС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ДОХРАЊ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ШТАЧ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143000" y="695160"/>
            <a:ext cx="601992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ИРОДН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–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ОЈЕЊЕ      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735480" y="3929040"/>
            <a:ext cx="729936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4-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(1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ЛАЗ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тк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неде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РЕЛ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ен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искрет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лавичаст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10320" y="2000160"/>
            <a:ext cx="84294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ДЕАЛ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год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ЕЗБЕЂ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РЕБ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026"/>
          <p:cNvSpPr/>
          <p:nvPr/>
        </p:nvSpPr>
        <p:spPr>
          <a:xfrm>
            <a:off x="1115640" y="371520"/>
            <a:ext cx="524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ХРАНA ОДOЈЧЕТ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7"/>
          <p:cNvSpPr/>
          <p:nvPr/>
        </p:nvSpPr>
        <p:spPr>
          <a:xfrm>
            <a:off x="830880" y="1981080"/>
            <a:ext cx="76359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Е КАРАКТЕРИСТИКЕ У ПРВОЈ ГОДИН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ВИСОКЕ НУТРИТИВНЕ ПОТРЕБ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 НЕЗРЕЛ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279440" y="487440"/>
            <a:ext cx="5807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АСТАВ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ХУМАНОГ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ЛЕК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3840" y="2097000"/>
            <a:ext cx="8853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РОТЕИ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r/l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М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6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ЗЕИ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,7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gr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ДЕ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317760" y="276120"/>
            <a:ext cx="162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АСТ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5040" y="981000"/>
            <a:ext cx="862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45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8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НОЛЕНСК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6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3- 6%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a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ИНОЛ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ИС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1-2%)              1%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08440" y="3470400"/>
            <a:ext cx="595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УГЉЕНИ</a:t>
            </a:r>
            <a:r>
              <a:rPr b="1" lang="sl-SI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ХИДРАТИ</a:t>
            </a:r>
            <a:r>
              <a:rPr b="1" lang="sl-SI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94560" y="4844880"/>
            <a:ext cx="862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7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47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ЛАКТОЗ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68560" y="914400"/>
            <a:ext cx="61401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НТИИНФЕКТИВН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ОЈСТВА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1680" y="1903320"/>
            <a:ext cx="787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A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m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ОСТРУ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0-4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g/m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gG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838080" y="3200400"/>
            <a:ext cx="7755120" cy="35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РЕБИОТ</a:t>
            </a:r>
            <a:r>
              <a:rPr b="1" lang="sl-SI" sz="2800" spc="-1" strike="noStrike" u="sng">
                <a:solidFill>
                  <a:srgbClr val="ff0000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К</a:t>
            </a:r>
            <a:r>
              <a:rPr b="1" lang="sl-SI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лигосахаридни ,несварљиви састојци хране који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кују раст "корисних"   бактер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 B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БИОТИЦИ : “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и микроорганизми који позитивно делују на организам домаћина “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914400" y="979560"/>
            <a:ext cx="7467480" cy="265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ГВОЖЂЕ</a:t>
            </a:r>
            <a:r>
              <a:rPr b="1" lang="sl-SI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5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Љ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KT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ЕРИН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90720" y="4373640"/>
            <a:ext cx="7086600" cy="19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sl-SI" sz="2800" spc="-1" strike="noStrike">
                <a:solidFill>
                  <a:srgbClr val="ff0000"/>
                </a:solidFill>
                <a:latin typeface="Times New Roman"/>
              </a:rPr>
              <a:t>Ca / 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0,271 /  0,14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,370/ 0,910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839880" y="1143000"/>
            <a:ext cx="7084800" cy="28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ВИТАМ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J 100-24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ДА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И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200240" y="4643280"/>
            <a:ext cx="663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В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ТА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ТАМИ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ПТИМАЛ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2600" y="1143000"/>
            <a:ext cx="7640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З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ХРАНУ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ЈЧЕТ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ОРИСТИ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АХ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ТЕ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ЗУМ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СВЕЖ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ТИВ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37320" y="1035000"/>
            <a:ext cx="7264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00"/>
                </a:solidFill>
                <a:latin typeface="Times New Roman"/>
              </a:rPr>
              <a:t>                  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1.)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У</a:t>
            </a:r>
            <a:r>
              <a:rPr b="1" lang="sl-SI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РАХ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ХЛАЂЕНА 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4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3 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УТ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ЕД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75Kcal/100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84240" y="76320"/>
            <a:ext cx="801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.)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ТЕЧНО</a:t>
            </a:r>
            <a:r>
              <a:rPr b="1" lang="sl-SI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КОНЗУМНО</a:t>
            </a:r>
            <a:r>
              <a:rPr b="1" lang="sl-SI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КРАВЉЕ</a:t>
            </a:r>
            <a:r>
              <a:rPr b="1" lang="sl-SI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МЛЕКО</a:t>
            </a:r>
            <a:r>
              <a:rPr b="1" lang="sl-SI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09160" y="1738440"/>
            <a:ext cx="8060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У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5-1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БЛАЖ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2: 1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иринча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ва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ЛАЂИ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5-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харо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ИШЕЉАВ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мијс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му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3-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/ 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1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acidophil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Lactobacillus bulgaricu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Streptococcus lactis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6- 7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76440" y="1143000"/>
            <a:ext cx="8258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РЕДНОСТИ  ДOЈEЊ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БЕЗ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ЂУ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ПУ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С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ИЗИ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м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Е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УП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ПРЕМ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Ф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J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Ч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504080" y="434880"/>
            <a:ext cx="5056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ЕДОСТАТЦИ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Д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ЈЕЊ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58920" y="2139840"/>
            <a:ext cx="90136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БЛЕ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ЖАВ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АКТА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sti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аpsсes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МОГУЋ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ИВАЊ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ОСИСАНО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РАН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И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80880" y="15228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  ЕНEРГEТСКЕ  И  НУТРИTIВНЕ  ПОТРЕБ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295280" y="342900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80880" y="1295280"/>
            <a:ext cx="8610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ЗРАСТ   ДЕЦ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РЗИНА RAСТЕЊ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CommercialPi BT" charset="2"/>
              <a:buChar char="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ЕПEН  ЗРEЛОСTИ  ОРГАНИЗМ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ЛEСНА МAСA И СТЕПЕН  УХРАЊEН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ЗIЧКА  AKТИВНОС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ЕНEТСКИ  ФАKTОР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03720" y="933480"/>
            <a:ext cx="6755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ОНТРАИНДIКАЦИЈЕ ЗА ДОЈЕЊ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14880" y="2744640"/>
            <a:ext cx="618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ЛАВ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ЈЕ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СПОСОБ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МЕТУРУ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ЗБИЉ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Ш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ЈК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ТЕТ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26"/>
          <p:cNvSpPr/>
          <p:nvPr/>
        </p:nvSpPr>
        <p:spPr>
          <a:xfrm>
            <a:off x="990720" y="1519200"/>
            <a:ext cx="7300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ОПУНСК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УТРИТИВН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ТРЕБ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0-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A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20-3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mgVit C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I.J VitD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71880" y="649440"/>
            <a:ext cx="4810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ЛТЕРНАТИВ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ОЈЕЊУ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63680" y="1905120"/>
            <a:ext cx="86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РАВЉЕГ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А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ТИРА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176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05880" y="792000"/>
            <a:ext cx="47800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ДАПТИРАН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ОРМУЛ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РАВЉЕГ МЛЕКА 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921600" y="2805120"/>
            <a:ext cx="612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С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ЛИМИЧН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ДАПТИРА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ПЕЦИЈАЛ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ЧН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04280" y="511200"/>
            <a:ext cx="70524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НЕВН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КОЛИЧИН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БРОКА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ТРЕБНЕ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ЈЧЕТ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935640" y="2235240"/>
            <a:ext cx="501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Н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 –2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ОСТРУМ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 2 НЕДЕЉЕ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 дневн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ЕМ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МЕСЕЦА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ЈЕМ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 МЕСЕЦА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8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ЧЕВ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Д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4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С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10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749520" y="944640"/>
            <a:ext cx="6566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ЕМЛЕЧН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ХРАН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ДОЈЧАДИ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53080" y="1870200"/>
            <a:ext cx="8526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-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УТР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В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ТРЕБ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ВОЖЂА И ВЛАКНА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PRERANOG UVOĐENJA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76320" y="358920"/>
            <a:ext cx="8839080" cy="143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М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ЛОГ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ПРЕДШКОЛС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04280" y="2309760"/>
            <a:ext cx="6170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ЕРГЕТ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1100 –12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ТЕИНС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НОС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ЕКО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више од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7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ОКА !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10640" y="685800"/>
            <a:ext cx="66196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ХРАН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ШКОЛС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KO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Г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ЕТ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E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АДОЛЕЦ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НТ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2120" y="256212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Ћ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Д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ЧАЦ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Е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ОШ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ЛИК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АЈ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ЕР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400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r>
              <a:rPr b="1" i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13160" y="600120"/>
            <a:ext cx="59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ИЗИОЛОШКА НЕЗРЕЛОС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89720" y="1641600"/>
            <a:ext cx="749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РЕЂУЈУ ЈЕ 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ЗРЕЛЕ  ГИТ  ФУНКЦИЈЕ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ТАБОЛИЧКИ   ПРОЦЕС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НАЛНА  ХОМЕОСТАЗ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04920" y="12193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АКТОРИ КОЈИ УТИЧУ НА Е и Н ПОТРЕБ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33040" y="2819520"/>
            <a:ext cx="8390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ДРЖАВАЊЕ ПОСТОЈЕЋ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РАЂИВАЊЕ НОВИХ ТКИВ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КА АКТИВНОС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ДИВИДУАЛНЕ РАЗЛИКЕ У ПОТРЕБАМА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09480" y="1143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ЕПОРУКE ДНЕВНИХ ПОТРЕБА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ДOЈЧАД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1768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00200" y="2438280"/>
          <a:ext cx="6095880" cy="3902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al/k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0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3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еци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228600" y="422280"/>
            <a:ext cx="8840880" cy="61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РИ УРАВНОТЕЖEНOЈ ИСХРАН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OTEИНИ                             12%   ЕНEР. УНОС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AСТИ                                    42%   ( 35-45%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ГЉЕНИ  ХИДРАТИ             46% (45-55%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УГЉЕНИХ ХIДРАТA   (СО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и H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)  = 4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БЕЛАНЧEВИНA                                       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гр МАСТИ                                                          9,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437560" y="2276640"/>
            <a:ext cx="4443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ОДА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ЕЛАНЧЕВИН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ГЉЕНИ ХИДРАТ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ИНЕРАЛНЕ СОЛ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ИТАМИНИ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ЛЕМЕНТИ У ТРАГ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080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4920" y="762120"/>
            <a:ext cx="860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ХРАНЉИВЕ МАТЕРИЈЕ ЗНАЧАЈНЕ У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СХРАНИ ДЕЦЕ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699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6699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973520" y="380880"/>
            <a:ext cx="50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ПОТРЕБЕ У ПРОТЕИНИМ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936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19320" y="1143000"/>
          <a:ext cx="6400800" cy="5559480"/>
        </p:xfrm>
        <a:graphic>
          <a:graphicData uri="http://schemas.openxmlformats.org/drawingml/2006/table">
            <a:tbl>
              <a:tblPr/>
              <a:tblGrid>
                <a:gridCol w="3278160"/>
                <a:gridCol w="312264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РАСТ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ТЕИНИМ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1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-1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-1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-18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2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x 2,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/4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/4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8:23:35Z</dcterms:created>
  <dc:creator>No Name</dc:creator>
  <dc:description/>
  <dc:language>en-US</dc:language>
  <cp:lastModifiedBy>Windows User</cp:lastModifiedBy>
  <dcterms:modified xsi:type="dcterms:W3CDTF">2020-05-04T09:13:10Z</dcterms:modified>
  <cp:revision>67</cp:revision>
  <dc:subject/>
  <dc:title>PowerPoint Presentation</dc:title>
</cp:coreProperties>
</file>